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969-C66D-4C7C-BAD0-25D551A0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4EA-9F98-427F-BAD1-42504D2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C61-B0D0-4453-ACC3-8E12EA5F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53A-8ADB-4337-947C-430E9E61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82F9-F214-425E-AEB2-C4C3EF04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D52-4D4F-4C67-831B-0DF1DC1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92F-8F4C-4B3B-BE8B-B9C0223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1607-2FE8-43C1-A746-FB8F69AE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AEE9-7A76-4837-AB81-7B8140C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8D8-F96F-4DE4-85E8-D3487F9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149B-D75E-468F-8179-2870597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84F-4D75-40D4-B9DD-09606028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F1D-6D67-4FF5-91FA-0BC9084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D15E-DB79-43E3-A53F-5C45385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926-C3E8-43CB-BDCD-A455982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5358-834E-4F7A-AD93-352ADCC1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6A3-CAE7-492E-859A-5BD4ED0C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84B53-AAFD-44B2-8EFB-9A97EB7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78F26-4773-48F4-8B81-E8EB35E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FEF9B-5734-4076-A184-741381A3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9BAEC-0E53-4B81-8DA9-374718CD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B5E73-7B32-4119-9AE8-2E55C05F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8E4-D201-440F-8CB0-3CC5973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B5D57-91CD-4FB7-BE25-895FFF8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6C6F4-FD73-4841-A649-49DE729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C711D-8132-448D-9FAD-544EB92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212FD-7766-4F6C-972D-BC304A7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663E6-3AA9-438A-B3E5-8881F214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56192-487C-4CAB-B7F1-AD12BECE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B4C8D-36F8-490A-A537-3C931B18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5493-9B92-4CFA-9829-82FB65A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A0BA-3195-4133-964C-FC41CA61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EFCF-45A2-470B-92E4-FA1DDDD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BB0-BDA2-4FAE-A8FF-B506874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4AEE-ABD1-4221-9F48-61EEDD0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A7C1-7C66-4EF8-B49B-57255C2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9C66-3A34-4A8B-B6C2-3A427B37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1D67-B6D3-47AA-9F54-15CFE63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F356-02FD-4169-AF06-673107D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A0D2-83EA-4663-9075-4DCB436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8CDC-B04C-4EA4-A84F-027385F0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D334-6B9A-492B-A6C4-ED36FE52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1902-4EA6-488E-A2E0-137F9400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919BD-A17C-4D72-87D1-82C3D64F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398-5D6C-4D93-9AB8-E4C6D5D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ACD2F-4EC9-4CAC-B805-07A4B64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FF53F-D2FE-4E7E-82EB-A578C613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AC0B5-A808-475F-9E02-F6395D2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19C45-80AD-45B3-9408-51E5D8A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9D3D4-5FBE-414B-9FC9-DE830A8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A3FF3-D989-40CF-B5AD-8227806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6D81F-C0B6-4025-9C66-99BB317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D34AA-9305-45D0-8958-1279018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1A079-6232-4905-B02F-8B08699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188B7-B35F-40F2-AAB0-D2163DC2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33F-84C9-4A7C-B3F5-2CFF1B2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A8B1D-8196-4A55-8E11-6B6253AA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53B76-7A08-4257-8B5A-7C5C9E8D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E4552-9DF2-4404-B03E-E918360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31EC5-A0D7-4DAC-92FA-C1CFA5D7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209FC-9B93-4DB0-B351-01C2579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4949A-0EAE-4D96-85EC-4CAFFEA8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4A8D4-3E3E-492B-87ED-8ADA77B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26CA2-FA2D-428A-93AC-26B613C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BD340-0565-4839-AAA2-BDE4444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8BCF5-E699-4645-A223-943AB4F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201-6103-41AC-89F7-67043E3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BB274-B908-42CE-9C87-023F630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43920-965E-46A3-AE54-ADC34B8F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C6472-8AC1-4E69-8EB6-B8264C50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27C18-A190-446C-975A-7EB525D6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22D2F-7226-4BE8-8E1D-18323E5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22842-D4D9-4DAF-81F9-0489C070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C2809-086A-4410-BC38-A0074F2C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8EDA6-8187-44B8-909B-2B48F77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46223-D381-4C63-9268-0E36769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2AAE6-7BC2-419D-9792-889FFDE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2ED-2E53-45F6-8173-9FCF7A3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95BC8-3C82-412F-9619-470271E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ABC72-966E-4516-B25D-227E65A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F9965-D892-4064-A763-B67394CF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32B76-E19E-4F4C-BEBE-85E35B4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0B349-612E-4B88-AA8B-F7628A62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EE6-FF29-414C-880B-BC53671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D7F-D11B-40EA-A135-DDA4F40ECE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6C74-2886-4A16-B672-A117B20E4A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C120-34E9-40E2-B58B-099FA10BC0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361B-4565-4896-B995-264A3FBCCE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57A-CD6B-4D7A-9D10-703A8FC30F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CFA-3581-41E1-A7E0-380FC4A4AB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3424-8070-441C-B6EF-78950C263D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9292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entury Schoolbook"/>
              </a:rPr>
              <a:t>и способы его смещения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КОНЦЕНТРАЦИИ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Равновесие сместится </a:t>
            </a:r>
            <a:r>
              <a:rPr b="1" i="1" lang="ru-RU" sz="4000" spc="-1" strike="noStrike">
                <a:solidFill>
                  <a:srgbClr val="7598d9"/>
                </a:solidFill>
                <a:latin typeface="Century Schoolbook"/>
              </a:rPr>
              <a:t>ВПРАВО,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есл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Увеличить концентрацию одного из реагирующих веществ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Отводить из зоны реакции продук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ДАВЛЕНИЯ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983960"/>
            <a:ext cx="746748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лия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а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на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равновес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роявляется только при наличии в систем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азов !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428760" y="27860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вышении давления равновесие сдвигается в направлении образования веществ (исходных или продуктов) с меньшим объемо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нижении давления равновесие сдвигается в направлении образования веществ с большим объе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    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 </a:t>
            </a:r>
            <a:r>
              <a:rPr b="1" lang="en-US" sz="4300" spc="-1" strike="noStrike">
                <a:solidFill>
                  <a:srgbClr val="006600"/>
                </a:solidFill>
                <a:latin typeface="Century Schoolbook"/>
              </a:rPr>
              <a:t>             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Q </a:t>
            </a:r>
            <a:br>
              <a:rPr sz="43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4508280"/>
            <a:ext cx="727092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повышении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 давления равновесие сместится туда, где молей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меньш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(где объемов меньше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7" descr="ravnoves_01"/>
          <p:cNvPicPr/>
          <p:nvPr/>
        </p:nvPicPr>
        <p:blipFill>
          <a:blip r:embed="rId1"/>
          <a:stretch/>
        </p:blipFill>
        <p:spPr>
          <a:xfrm>
            <a:off x="324000" y="1844640"/>
            <a:ext cx="8497800" cy="270180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4211640" y="836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"/>
          <p:cNvSpPr/>
          <p:nvPr/>
        </p:nvSpPr>
        <p:spPr>
          <a:xfrm flipH="1">
            <a:off x="4211280" y="1052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85880" y="107172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1430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5786280" y="114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28400" y="1071360"/>
            <a:ext cx="3786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атализаторы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не влияют на положение равновесия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www.infinitiparts.ru/user_imgs/508563_infiniti_qx56_tuning.jpg"/>
          <p:cNvPicPr/>
          <p:nvPr/>
        </p:nvPicPr>
        <p:blipFill>
          <a:blip r:embed="rId1"/>
          <a:stretch/>
        </p:blipFill>
        <p:spPr>
          <a:xfrm>
            <a:off x="4286160" y="642960"/>
            <a:ext cx="397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entury Schoolbook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3499920"/>
            <a:ext cx="3311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БЛУКОВ И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2954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3429000" cy="2595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8"/>
          <p:cNvSpPr/>
          <p:nvPr/>
        </p:nvSpPr>
        <p:spPr>
          <a:xfrm>
            <a:off x="4643280" y="3214800"/>
            <a:ext cx="417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</a:rPr>
              <a:t>Кистяковский В.А.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714240" y="3929040"/>
            <a:ext cx="707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Электролиты в водной среде (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лавленном состоянии) распадают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положительно заряженные ион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катионы) и отрицательно заряжен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оны (анионы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NaCl       Na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+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+ Cl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3357720" y="4143240"/>
            <a:ext cx="57600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3357360" y="4357800"/>
            <a:ext cx="50292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остояние равновесия характерно для обратимых химических реакци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братимая реа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химическая реакция, которая при одних и тех же условиях может идти в прямом и в обратном напра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обратимо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называется реакция, которая идет практически до конца в одном направлении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2700"/>
            </a:b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642680"/>
            <a:ext cx="8229600" cy="44118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епень электролитической диссоциации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зависит от природ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 общему числу молекул, введенных в раствор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n331"/>
          <p:cNvPicPr/>
          <p:nvPr/>
        </p:nvPicPr>
        <p:blipFill>
          <a:blip r:embed="rId1"/>
          <a:stretch/>
        </p:blipFill>
        <p:spPr>
          <a:xfrm>
            <a:off x="324000" y="3571920"/>
            <a:ext cx="7105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Century Schoolbook"/>
              </a:rPr>
              <a:t>СИЛЬНЫЕ ЭЛЕКТРОЛИТЫ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0040" y="1142640"/>
            <a:ext cx="8229600" cy="142884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щества с ионными или сильно полярными связ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хорошо растворимые соли, сильные кислоты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B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и сильные основания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b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s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В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 flipV="1" rot="10800000">
            <a:off x="428400" y="292788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Слабые 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2960" y="3357720"/>
            <a:ext cx="74293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857240"/>
            <a:ext cx="8229600" cy="18576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Свойства ионов резко отличаются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йств нейтральных атом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яющих их элементов. Ионы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х растворах гидратиров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73580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Типы реакций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о всех обратимых реакциях скорость прямой реакции уменьшается, скорость обратной реакции возрастает до тех пор, пока обе скорости не станут равными и не установится состояние равновес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13" descr="ravnoves"/>
          <p:cNvPicPr/>
          <p:nvPr/>
        </p:nvPicPr>
        <p:blipFill>
          <a:blip r:embed="rId1"/>
          <a:stretch/>
        </p:blipFill>
        <p:spPr>
          <a:xfrm>
            <a:off x="714240" y="2357280"/>
            <a:ext cx="62866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состояние системы, в котором скорость прямой реакции равна скорости обратной реак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17"/>
          <p:cNvPicPr/>
          <p:nvPr/>
        </p:nvPicPr>
        <p:blipFill>
          <a:blip r:embed="rId1"/>
          <a:stretch/>
        </p:blipFill>
        <p:spPr>
          <a:xfrm>
            <a:off x="857160" y="2000160"/>
            <a:ext cx="7188120" cy="22147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"/>
          <p:cNvSpPr/>
          <p:nvPr/>
        </p:nvSpPr>
        <p:spPr>
          <a:xfrm>
            <a:off x="785880" y="435780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центрации всех веществ в состоянии равновесия (равновесные концентрации) постоян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имическое равновесие имеет динамический характер. Это значит, что и прямая и обратная реакции при равновесии не прекращ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42560" y="428400"/>
            <a:ext cx="4071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мещение равновесия в нужном направлении достигается изменением условий реакции (</a:t>
            </a: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-Если на систему, находящуюся в состоянии равновесия, оказать внешнее воздействие, то система перейдет в другое состояние так, чтобы уменьшить эффект внешнего воздействия.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SHATELIE"/>
          <p:cNvPicPr/>
          <p:nvPr/>
        </p:nvPicPr>
        <p:blipFill>
          <a:blip r:embed="rId1"/>
          <a:stretch/>
        </p:blipFill>
        <p:spPr>
          <a:xfrm>
            <a:off x="4572000" y="500040"/>
            <a:ext cx="4000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ля одностадийной обратимой реакци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 равновесии выражения для скоростей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 обратной реакци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меют вид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де [a], [b], [c] и [d] - равновесные молярные концентрации веществ a, b, c и d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a,b,c и d - соответствующие стехиометрические коэффициенты (при условии, что реакция идет в одну стадию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k1 и k2 -коэффициенты пропорциональности, называемые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константами скорос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1" descr="Равновесная реакция"/>
          <p:cNvPicPr/>
          <p:nvPr/>
        </p:nvPicPr>
        <p:blipFill>
          <a:blip r:embed="rId1"/>
          <a:stretch/>
        </p:blipFill>
        <p:spPr>
          <a:xfrm>
            <a:off x="1500120" y="857160"/>
            <a:ext cx="4613400" cy="507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Скорости прямой и обратной реакций"/>
          <p:cNvPicPr/>
          <p:nvPr/>
        </p:nvPicPr>
        <p:blipFill>
          <a:blip r:embed="rId2"/>
          <a:stretch/>
        </p:blipFill>
        <p:spPr>
          <a:xfrm>
            <a:off x="785880" y="2500200"/>
            <a:ext cx="78580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выделением теплоты, называются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entury Schoolbook"/>
              </a:rPr>
              <a:t>экз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поглощением теплоты, называются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энд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ждой обратимой реакции одно из направлений отвечает экзотермическому процессу, а другое - эндотермическому.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5" descr="r23"/>
          <p:cNvPicPr/>
          <p:nvPr/>
        </p:nvPicPr>
        <p:blipFill>
          <a:blip r:embed="rId1"/>
          <a:stretch/>
        </p:blipFill>
        <p:spPr>
          <a:xfrm>
            <a:off x="324000" y="2276640"/>
            <a:ext cx="8569080" cy="998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бы сместить равновес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для экзотермической реакции)---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нужно понизить температу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для эндотермической---наоборот,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повысить температу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05:48:41Z</dcterms:modified>
  <cp:revision>30</cp:revision>
  <dc:subject/>
  <dc:title>PowerPoint Presentation</dc:title>
</cp:coreProperties>
</file>